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7.png" ContentType="image/png"/>
  <Override PartName="/ppt/media/image9.png" ContentType="image/png"/>
  <Override PartName="/ppt/media/image2.png" ContentType="image/png"/>
  <Override PartName="/ppt/media/image10.wmf" ContentType="image/x-wmf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E6A9-C1A4-4A29-B442-F674CD09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D902-8A57-43B3-825C-111DBE8C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B6ED-80E7-403A-8741-ACE50082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8A3B-D0E4-4FEE-8B58-A3DC9828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BA19-4C0D-4A69-B20B-1094DC56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43B8-2A02-432C-AE24-F73B1523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4856-90AF-4218-BAC9-C0C85C3D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A8BD-5379-4874-98E1-1F6F8679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5926-6485-4ADA-AD60-53E3D8C7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1300-10E0-4450-BB39-0C6586DD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5D26-F956-440A-B8F3-8189362D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092-F303-404F-AD2A-B07383D1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2485-BAC2-4616-BB27-3C5C73DD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A2EB-23FB-43EE-B884-2CC83D1E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6F83-1FE4-47B0-8425-309B79EE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FAB2-97B1-4626-9FBD-7D7B87EA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93FB-D73E-4D1C-9E8F-D106C0B9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FEC75-5158-49D2-8B8D-CF3A5F46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D0B13-1CDF-4E49-997A-B2C116DD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61740-7D85-48B0-87EE-0A72F38F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2466B-ACDC-4B48-B4E2-776B875F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ADD47-05D5-4D81-A532-EF9C8EC8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10D0-72E3-4FA4-81EB-C3E42E60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0A3C1-0065-4FB1-B2D0-11BDE7B7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FC3A9-CF69-44F3-92E6-B68B87AC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3C4ED-6F51-4D38-807A-C419C8AF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7A33C-7601-491E-A024-87C4C4DB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940A3-CA22-43F8-8505-82ECEC5B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9BB73-D491-4656-99A6-8AF930D3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0B906-D54C-4C29-AE39-7C06A0DE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696E5-07CE-4344-B8A5-8A1C4C77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0C6A2-161E-42BB-8258-3B3410FF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7B1A6-719B-4573-A4A8-D40FF7F9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BCA3-DD10-40C8-ADF0-88D118D3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5B9F2-F0B6-4AF7-98DF-81532DC8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B1E3E-27C2-4DA5-AF70-DFFEBB14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E0EB9-1B73-4FFD-BAA0-3E9F3D39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5AD44-B40F-420C-86C0-AF03F260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0E8E6-3121-4789-9D67-BFCBE27C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52270-3A14-4E30-9894-3B8C0D90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C97E7-E7EF-448B-A6E0-90A8BFC6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8581F-80ED-4C88-8BA0-B1195DC9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3E1A9-5835-4E8C-A9BE-889D629B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FD6E1-A8E6-4EF0-BEC6-CBAFDC66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8F1F-62E4-40FA-8C00-80B3AB14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3677C-B9FE-41DC-9165-1594120B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E8349-0D4A-4FEE-AB10-EB316962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2FDFD-C23B-4323-9A1C-A9600983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52111-6553-4623-9502-2F1E13B2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5D367-0B8F-4644-8C32-0966B3A2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5E6C0-04E4-4924-B45B-8B44E9B2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6C334-37E2-4178-981E-996716A4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8FACF-09ED-41DB-819D-7F151640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9C51F-B2E7-44DE-AF91-04C5F31D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C6789-12D7-4E63-92EE-627BC382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BFDD-E98F-4F28-B785-AA66C83C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0307E-6BB7-4835-ABBB-059E23DA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D6175-C3C4-4523-A117-0E85DBD2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D9262-1238-4671-8E19-D1947049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55036-55D2-495C-8781-7A66A0DA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7C9E7-FCAE-4CCB-BDD2-76220D65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F40FA-F52B-483B-8598-1A6EEAE0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00A48-190E-4DBA-A47B-3FFE7239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5AAD0-ED20-44E1-9E03-89E47A9A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83DF2-B6B5-4DE6-84AC-037C5F5D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56BF7-88E3-4524-9B09-893D2B1F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DF23-FA4B-4A52-BF5A-0C764280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BE261-76FD-483C-85DC-BD682C56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20AB8-F008-49F1-80DF-7A2F70FC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522CA-1EAA-4DE5-A9F9-04DA6EB6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5B98C-C670-4FA7-B993-6BD12FB8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8E226-60FD-4B0E-983E-424C4340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10208-7EDF-46CE-B6EB-35DDE782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47AC5-81F9-465B-B20B-61E3D1AA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1700A-C11A-4894-9477-58D99D63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9190B-2EEE-4B0A-9F21-1983B5E7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E98EA-4B4A-42BB-B19E-FC83E9E9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6878-BE47-49D3-8272-F272DE1F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8F9AB-574A-4E0C-84F7-307AF0B8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E7486-076E-4719-A6B6-74A82B4C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7521A-5C5C-4F96-9AB8-60F81F7E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A6C0A-3546-41F3-AC03-CDDE98CE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0611F-A0FC-41BD-9038-E3B13C8B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808DD-4447-4703-94C3-E1A571FC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BDF8D-E9B3-435E-B48C-C732A693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26FF1-C507-4784-8C60-6421E833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BB773-1C3A-415B-9EED-F05FC0C9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FE146-AE45-4D57-855B-A2D03A57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A930-49DA-4336-9EF0-D45D1504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DD96B-A527-4047-91C8-E227DC96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D761F-CBF7-4E99-9326-AB57B814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BDC5B-8833-44D4-9DF1-D5E3B058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08FEE-E733-46A1-B099-101FF34B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31437-2D96-45DC-B78E-D55E15E8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62EEE-F6B1-47F1-AD73-9FC9FE1A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84A95-9454-4BD5-A4A9-EBD7B11D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F41D-7043-4CFE-B0FB-B7615C0EF90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7500-BA0A-43ED-B302-7EAD9C08C3A3}" type="slidenum">
              <a:rPr b="0" lang="en-A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C166-8B81-4F85-8560-6A254FD8663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1B2D-837F-49A3-AADA-ABE14FEA4E1F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A7D9-A219-43E3-BAD0-DF07E832956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4601-6FC8-41D9-BE4B-5EFEC253F74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87FB-50FB-4BEA-81F5-C86F87631D3A}" type="slidenum"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E3E2-519B-4772-8802-AC82B954D42E}" type="slidenum">
              <a:rPr b="0" lang="en-A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071200" cy="148140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536400" y="2200320"/>
            <a:ext cx="807120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A by-law is a local government  rule or regulatio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TextBox 3"/>
          <p:cNvSpPr/>
          <p:nvPr/>
        </p:nvSpPr>
        <p:spPr>
          <a:xfrm>
            <a:off x="-1643040" y="1857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Picture 4" descr="C:\Program Files\Microsoft Office\Media\CntCD1\ClipArt6\j0290834.wmf"/>
          <p:cNvPicPr/>
          <p:nvPr/>
        </p:nvPicPr>
        <p:blipFill>
          <a:blip r:embed="rId2"/>
          <a:stretch/>
        </p:blipFill>
        <p:spPr>
          <a:xfrm>
            <a:off x="5143680" y="3429000"/>
            <a:ext cx="3079440" cy="2452680"/>
          </a:xfrm>
          <a:prstGeom prst="rect">
            <a:avLst/>
          </a:prstGeom>
          <a:ln w="0">
            <a:noFill/>
          </a:ln>
        </p:spPr>
      </p:pic>
      <p:sp>
        <p:nvSpPr>
          <p:cNvPr id="351" name="TextBox 9"/>
          <p:cNvSpPr/>
          <p:nvPr/>
        </p:nvSpPr>
        <p:spPr>
          <a:xfrm>
            <a:off x="1000080" y="52862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entury Gothic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Federal means having to do with the Parliament of Australia and/or Australian Governmen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Picture 4" descr="C:\Program Files\Microsoft Office\Media\CntCD1\ClipArt7\j0300864.wmf"/>
          <p:cNvPicPr/>
          <p:nvPr/>
        </p:nvPicPr>
        <p:blipFill>
          <a:blip r:embed="rId2"/>
          <a:stretch/>
        </p:blipFill>
        <p:spPr>
          <a:xfrm>
            <a:off x="5286240" y="3500280"/>
            <a:ext cx="3036960" cy="1970280"/>
          </a:xfrm>
          <a:prstGeom prst="rect">
            <a:avLst/>
          </a:prstGeom>
          <a:ln w="0">
            <a:noFill/>
          </a:ln>
        </p:spPr>
      </p:pic>
      <p:sp>
        <p:nvSpPr>
          <p:cNvPr id="355" name="TextBox 6"/>
          <p:cNvSpPr/>
          <p:nvPr/>
        </p:nvSpPr>
        <p:spPr>
          <a:xfrm>
            <a:off x="1214280" y="521496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entury Gothic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Aye is the word used for voting ‘yes’ in Parliamen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8" name="Picture 2" descr="C:\Program Files\Microsoft Office\Media\CntCD1\ClipArt4\j0242165.wmf"/>
          <p:cNvPicPr/>
          <p:nvPr/>
        </p:nvPicPr>
        <p:blipFill>
          <a:blip r:embed="rId2"/>
          <a:stretch/>
        </p:blipFill>
        <p:spPr>
          <a:xfrm>
            <a:off x="4714920" y="3000240"/>
            <a:ext cx="1928880" cy="28353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857160" y="48578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entury Gothic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A Bill is a proposal for a new law or to modify an existing law that is presented to parliamen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714240" y="514368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entury Gothic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3" name="Picture 2" descr="C:\Program Files\Microsoft Office\Media\CntCD1\ClipArt2\j0229705.wmf"/>
          <p:cNvPicPr/>
          <p:nvPr/>
        </p:nvPicPr>
        <p:blipFill>
          <a:blip r:embed="rId2"/>
          <a:stretch/>
        </p:blipFill>
        <p:spPr>
          <a:xfrm>
            <a:off x="5286240" y="4214880"/>
            <a:ext cx="18180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A law is a rule or set of rules recognised by society as binding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571680" y="51436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entury Gothic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7" name="Picture 2" descr="C:\Program Files\Microsoft Office\Media\CntCD1\ClipArt7\j0339254.wmf"/>
          <p:cNvPicPr/>
          <p:nvPr/>
        </p:nvPicPr>
        <p:blipFill>
          <a:blip r:embed="rId2"/>
          <a:stretch/>
        </p:blipFill>
        <p:spPr>
          <a:xfrm>
            <a:off x="5929200" y="3929040"/>
            <a:ext cx="221472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The Budget is a plan before a Parliament that shows how much money the government expects to collect coming year and how it will spend that money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TextBox 3"/>
          <p:cNvSpPr/>
          <p:nvPr/>
        </p:nvSpPr>
        <p:spPr>
          <a:xfrm>
            <a:off x="571680" y="514368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entury Gothic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Picture 2" descr="d:\Users\rickyt.STAWELL-PS\AppData\Local\Microsoft\Windows\Temporary Internet Files\Content.IE5\G79YU1UT\MCj04398470000[1].wmf"/>
          <p:cNvPicPr/>
          <p:nvPr/>
        </p:nvPicPr>
        <p:blipFill>
          <a:blip r:embed="rId2"/>
          <a:stretch/>
        </p:blipFill>
        <p:spPr>
          <a:xfrm>
            <a:off x="3929040" y="4143240"/>
            <a:ext cx="30924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ffffff"/>
                </a:solidFill>
                <a:latin typeface="Century Gothic"/>
              </a:rPr>
              <a:t>A vote is a formal expression of a choice, such as putting one’s hand up or making a piece of paper for counting purpos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TextBox 3"/>
          <p:cNvSpPr/>
          <p:nvPr/>
        </p:nvSpPr>
        <p:spPr>
          <a:xfrm>
            <a:off x="571680" y="54291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entury Gothic"/>
              </a:rPr>
              <a:t>BACK TO GLOSSAR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5" name="Picture 2" descr="d:\Users\rickyt.STAWELL-PS\AppData\Local\Microsoft\Windows\Temporary Internet Files\Content.IE5\WC2335HF\MCj04398410000[1].wmf"/>
          <p:cNvPicPr/>
          <p:nvPr/>
        </p:nvPicPr>
        <p:blipFill>
          <a:blip r:embed="rId2"/>
          <a:stretch/>
        </p:blipFill>
        <p:spPr>
          <a:xfrm>
            <a:off x="5000760" y="3571920"/>
            <a:ext cx="28573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22:25:59Z</dcterms:created>
  <dc:creator>Education</dc:creator>
  <dc:description/>
  <dc:language>en-US</dc:language>
  <cp:lastModifiedBy>Education</cp:lastModifiedBy>
  <dcterms:modified xsi:type="dcterms:W3CDTF">2009-10-22T23:26:04Z</dcterms:modified>
  <cp:revision>6</cp:revision>
  <dc:subject/>
  <dc:title>RULES &amp; LAWS GLOSSARY</dc:title>
</cp:coreProperties>
</file>